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ct" ContentType="image/x-pict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0.pct" ContentType="image/x-pict"/>
  <Override PartName="/ppt/media/image18.pct" ContentType="image/x-pict"/>
  <Override PartName="/ppt/media/image12.pct" ContentType="image/x-pict"/>
  <Override PartName="/ppt/media/image33.pct" ContentType="image/x-pict"/>
  <Override PartName="/ppt/media/image8.pct" ContentType="image/x-pict"/>
  <Override PartName="/ppt/media/image38.pct" ContentType="image/x-pict"/>
  <Override PartName="/ppt/media/image40.pct" ContentType="image/x-pict"/>
  <Override PartName="/ppt/media/image3.jpeg" ContentType="image/jpeg"/>
  <Override PartName="/ppt/media/image9.pct" ContentType="image/x-pict"/>
  <Override PartName="/ppt/media/image39.pct" ContentType="image/x-pict"/>
  <Override PartName="/ppt/media/image41.pct" ContentType="image/x-pict"/>
  <Override PartName="/ppt/media/image31.pct" ContentType="image/x-pict"/>
  <Override PartName="/ppt/media/image29.pct" ContentType="image/x-pict"/>
  <Override PartName="/ppt/media/image32.pct" ContentType="image/x-pict"/>
  <Override PartName="/ppt/media/image37.pct" ContentType="image/x-pict"/>
  <Override PartName="/ppt/media/image7.pct" ContentType="image/x-pict"/>
  <Override PartName="/ppt/media/image30.pct" ContentType="image/x-pict"/>
  <Override PartName="/ppt/media/image28.pct" ContentType="image/x-pict"/>
  <Override PartName="/ppt/media/image42.pct" ContentType="image/x-pict"/>
  <Override PartName="/ppt/media/image11.pct" ContentType="image/x-pict"/>
  <Override PartName="/ppt/media/image6.pct" ContentType="image/x-pict"/>
  <Override PartName="/ppt/media/image36.pct" ContentType="image/x-pict"/>
  <Override PartName="/ppt/media/image13.png" ContentType="image/png"/>
  <Override PartName="/ppt/media/image10.pct" ContentType="image/x-pict"/>
  <Override PartName="/ppt/media/image5.pct" ContentType="image/x-pict"/>
  <Override PartName="/ppt/media/image35.pct" ContentType="image/x-pict"/>
  <Override PartName="/ppt/media/image34.pct" ContentType="image/x-pict"/>
  <Override PartName="/ppt/media/image4.pct" ContentType="image/x-pict"/>
  <Override PartName="/ppt/media/image27.pct" ContentType="image/x-pict"/>
  <Override PartName="/ppt/media/image2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1C3-EA49-47F0-A3D4-4C7FF641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195-5460-4924-8DE1-A6D32AB8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695-9E72-40D2-9368-F72D9205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D30-252A-4049-B714-EA994F9F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B0DE-DCED-4B5E-B67E-073D5A00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788D-2E3C-45DF-8016-63C5521C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91A6-3D17-45F6-B239-620138AF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C14A-832E-459E-9988-F99CA244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98FB-0330-41A0-A87D-2AE37F7C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5F5F-B46A-4A6D-B68E-4191D462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E215-BD27-4F67-93C0-A13745A9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DE0-A45E-4DC9-A28D-65165356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522E-0A8C-4514-8E6A-F2F82CC3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A068-E814-4D47-9C11-2CC64CBA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E815-E389-49AE-A8C8-786ABA77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C04D-F392-4D92-81DE-A2F85526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BEAE-E5EC-4603-8B96-67FEDF47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430-1265-4DD7-BCA6-0886DB6C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208-9EB4-4092-8C94-421BAA70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5D2-8CAC-4A6C-B5ED-72C6657C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1B9-5E3B-48B6-9F90-8AE1D9E4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70A-1E58-4781-9D49-34B481B3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E62-48B7-4665-96A1-8276E2BD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518-72D1-46D4-8EE6-7C200A66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522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1522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380880"/>
              <a:ext cx="152640" cy="152640"/>
            </a:xfrm>
            <a:prstGeom prst="rect">
              <a:avLst/>
            </a:prstGeom>
            <a:solidFill>
              <a:srgbClr val="ffe6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3240" y="1828800"/>
              <a:ext cx="9140760" cy="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457B-B9F9-4D02-B7D7-56202A6EF94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4A89-23AE-4426-9BEF-8F91D9DF502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ct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ct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ct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pct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pct"/><Relationship Id="rId1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ct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pct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pct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pct"/><Relationship Id="rId1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84872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s and Monomials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4856040"/>
            <a:ext cx="1524240" cy="1455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762120"/>
            <a:ext cx="9144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nomial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n expression that is a number, a variable, or a product of a number and variabl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nstant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monomial containing no variabl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efficient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 numerical factor of a monomial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gree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sum of the exponents of a monomial’s variabl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ower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expression of the form x</a:t>
            </a:r>
            <a:r>
              <a:rPr b="0" lang="en-US" sz="3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2480" y="2286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ws of Exponen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76520" y="2666880"/>
          <a:ext cx="129672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129672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562720" y="2895480"/>
          <a:ext cx="114588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895480"/>
                    <a:ext cx="11458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583320" y="4807080"/>
          <a:ext cx="16462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3320" y="4807080"/>
                    <a:ext cx="16462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80880" y="19051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gative Exponent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8006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ultiplying Power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600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2895480"/>
          <a:ext cx="801720" cy="6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895480"/>
                    <a:ext cx="80172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495680" y="26668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495680" y="2666880"/>
          <a:ext cx="784440" cy="119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2666880"/>
                    <a:ext cx="7844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257800" y="48769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00600" y="4724280"/>
          <a:ext cx="1752480" cy="852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47242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81080" y="228600"/>
            <a:ext cx="541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ws of Exponen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867280" y="2286000"/>
          <a:ext cx="164484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86000"/>
                    <a:ext cx="16448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172200" y="3733920"/>
          <a:ext cx="139536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733920"/>
                    <a:ext cx="1395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49400" y="5230800"/>
          <a:ext cx="7331040" cy="270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400" y="5230800"/>
                    <a:ext cx="733104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477120" y="5257800"/>
          <a:ext cx="1844640" cy="69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5257800"/>
                    <a:ext cx="18446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33520" y="20574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viding Power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4290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of a Power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029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ower of a Product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20574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952880" y="1981080"/>
          <a:ext cx="779760" cy="135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1981080"/>
                    <a:ext cx="7797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105520" y="360504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52880" y="3605040"/>
          <a:ext cx="1117800" cy="8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605040"/>
                    <a:ext cx="111780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952880" y="56386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952880" y="5181480"/>
          <a:ext cx="129564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5181480"/>
                    <a:ext cx="1295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2286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ws of Exponen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2895480"/>
          <a:ext cx="1455480" cy="17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145548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04920" y="19810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wer of a Quotient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33412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wer of Zero: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19720" y="5257800"/>
          <a:ext cx="141588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5257800"/>
                    <a:ext cx="14158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209680" y="2971800"/>
          <a:ext cx="8305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2971800"/>
                    <a:ext cx="830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553080" y="48006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54100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724280" y="2819520"/>
          <a:ext cx="1981440" cy="170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2819520"/>
                    <a:ext cx="198144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58000" y="2895480"/>
          <a:ext cx="873000" cy="160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2895480"/>
                    <a:ext cx="873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8915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using the laws of exponents:</a:t>
            </a:r>
            <a:endParaRPr b="0" lang="en-US" sz="4400" spc="-1" strike="noStrike">
              <a:solidFill>
                <a:srgbClr val="ffffff"/>
              </a:solidFill>
              <a:latin typeface="Futur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2209680"/>
          <a:ext cx="47959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7959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4120" y="2209680"/>
          <a:ext cx="2743200" cy="7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209680"/>
                    <a:ext cx="274320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80880" y="3505320"/>
          <a:ext cx="423540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505320"/>
                    <a:ext cx="423540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791320" y="2133720"/>
            <a:ext cx="259056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0" y="3581280"/>
          <a:ext cx="266688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581280"/>
                    <a:ext cx="266688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029200" y="3581280"/>
            <a:ext cx="2590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3520" y="4648320"/>
          <a:ext cx="2233440" cy="186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4648320"/>
                    <a:ext cx="223344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895480" y="4952880"/>
          <a:ext cx="1600200" cy="974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4952880"/>
                    <a:ext cx="160020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581280" y="4952880"/>
            <a:ext cx="91440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276720" y="2209680"/>
          <a:ext cx="1968480" cy="7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196848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886200" y="2133720"/>
            <a:ext cx="137160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286000" y="3505320"/>
          <a:ext cx="16765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505320"/>
                    <a:ext cx="16765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971800" y="3505320"/>
            <a:ext cx="990720" cy="99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505320" y="5181480"/>
          <a:ext cx="2894040" cy="86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5181480"/>
                    <a:ext cx="28940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80880" y="1981080"/>
          <a:ext cx="2819520" cy="14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1981080"/>
                    <a:ext cx="281952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80880" y="3657600"/>
          <a:ext cx="1981440" cy="942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3657600"/>
                    <a:ext cx="198144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80880" y="5270400"/>
          <a:ext cx="297180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270400"/>
                    <a:ext cx="2971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114800" y="5181480"/>
            <a:ext cx="228600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840" y="838080"/>
            <a:ext cx="346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exampl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4600" y="4191120"/>
            <a:ext cx="2971800" cy="2133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133720"/>
          <a:ext cx="380988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380988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191120" y="2209680"/>
          <a:ext cx="3581280" cy="195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209680"/>
                    <a:ext cx="3581280" cy="19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743200" y="4419720"/>
          <a:ext cx="2743200" cy="161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4419720"/>
                    <a:ext cx="274320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57920" y="1066680"/>
            <a:ext cx="39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other Exampl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400800" y="1981080"/>
            <a:ext cx="1219320" cy="1919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657600" y="1981080"/>
          <a:ext cx="2000160" cy="17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00016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870520" y="1979640"/>
          <a:ext cx="159408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0520" y="1979640"/>
                    <a:ext cx="15940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009800" y="1976400"/>
          <a:ext cx="2527200" cy="17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9800" y="1976400"/>
                    <a:ext cx="25272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28600" y="4267080"/>
          <a:ext cx="2982960" cy="145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267080"/>
                    <a:ext cx="298296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124080" y="4267080"/>
          <a:ext cx="2336760" cy="145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4267080"/>
                    <a:ext cx="233676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334120" y="4267080"/>
          <a:ext cx="2176200" cy="145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4267080"/>
                    <a:ext cx="217620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391520" y="4419720"/>
          <a:ext cx="1531800" cy="120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91520" y="4419720"/>
                    <a:ext cx="15318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7696080" y="4343400"/>
            <a:ext cx="1219320" cy="1295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360" y="1143000"/>
            <a:ext cx="278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mor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1:35:22Z</dcterms:created>
  <dc:creator>HCPS</dc:creator>
  <dc:description/>
  <dc:language>en-US</dc:language>
  <cp:lastModifiedBy>Parkland High School</cp:lastModifiedBy>
  <dcterms:modified xsi:type="dcterms:W3CDTF">2010-09-30T12:18:12Z</dcterms:modified>
  <cp:revision>20</cp:revision>
  <dc:subject/>
  <dc:title>Exponents and Monomials</dc:title>
</cp:coreProperties>
</file>